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B356-1DC5-4D80-8D2F-41056B191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2230-6A64-47CC-A381-F20F1546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FEE9-E2F7-4A3F-9D63-AE2FA3D0C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A404-532F-45C7-B1AD-9CDB6DC01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2080-1C1E-4078-8085-065A9A54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3DE6-7BE3-4B5C-B648-4B6DCB5A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A834-99C2-4CBB-ADEB-40165A43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CC59-42FE-4EC6-A372-674A4A91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948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F898-DE1F-44E6-8FF3-8C28F190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48A3-2103-4481-8D4C-B29EAFA9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3FF0-2ECD-4827-9CEE-A461B028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C585-F767-47B6-9693-8A33399A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3002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7000" indent="-23832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6520" indent="-23976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6640"/>
            <a:ext cx="1428840" cy="660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6640"/>
            <a:ext cx="2171520" cy="660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6640"/>
            <a:ext cx="1428480" cy="660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26E0B9A6-A530-4D56-B0BB-77E711FF29B7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2476440"/>
            <a:ext cx="838080" cy="41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gno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3886200"/>
            <a:ext cx="8380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rm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einbar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03320" y="4562640"/>
            <a:ext cx="838440" cy="41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handl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urchführ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5940360"/>
            <a:ext cx="838080" cy="4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handl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urchführ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66760" y="8545680"/>
            <a:ext cx="519120" cy="495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71880" y="1990800"/>
            <a:ext cx="304560" cy="330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838080"/>
            <a:ext cx="0" cy="822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838080"/>
            <a:ext cx="0" cy="822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1828800"/>
            <a:ext cx="0" cy="731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05720" y="1828800"/>
            <a:ext cx="0" cy="731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838080"/>
            <a:ext cx="0" cy="822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57800" y="1200240"/>
            <a:ext cx="12193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1886040"/>
            <a:ext cx="129528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blau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okum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ilfsmitt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123920"/>
            <a:ext cx="2438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lauf / Tätigkeite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handl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330120"/>
            <a:ext cx="175248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.5.1 Behandl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29200" y="2438280"/>
            <a:ext cx="18288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gnose wurde durchgeführt und Behandlung steht an. Notwendige Vorbereitungen treff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2971800"/>
            <a:ext cx="18288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ushändigen des Rezepts a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n Patienten ggf. Verwei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uf mögliche Dienstleis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3657600"/>
            <a:ext cx="18288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ch externer Behandlung  mit dem Patienten einen erneuten Termin festleg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65640" y="5951520"/>
            <a:ext cx="15400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4495680"/>
            <a:ext cx="18288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e Behandlung wird nach wissenschaftlichen Erkenntnissen durchgefüh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5029200"/>
            <a:ext cx="182880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Überprüfung nach festgelegtem Zeitraum durchführen, ggf. mi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 diagnostizierenden Arzt. Bei NEIN Diagnose überdenken und ggf. neue Behandlung ansetz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7201080"/>
            <a:ext cx="18288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lls keine wesentliche Verbesserung des Zustandes eingetreten ist, wird eine erneute Diagnose durchgefüh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7858080"/>
            <a:ext cx="18288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schluss der Patientenakte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inleitung der Abrechnung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enanalyse (statistische Erfassu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5257800"/>
            <a:ext cx="47304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15000">
            <a:off x="478080" y="1091520"/>
            <a:ext cx="66204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Verant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wortli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32400">
            <a:off x="67320" y="1144800"/>
            <a:ext cx="6858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itarbe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708660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schwerd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seitigt / erfolgrei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minder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76480" y="5203800"/>
            <a:ext cx="495360" cy="49536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5920" y="5245200"/>
            <a:ext cx="838080" cy="41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alidierung 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iagno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6560" y="7953480"/>
            <a:ext cx="838080" cy="41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enanalyse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enpfle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25146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zim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81160" y="3033720"/>
            <a:ext cx="495360" cy="49536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24160" y="232416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09800" y="307656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08000" y="6597720"/>
            <a:ext cx="838440" cy="41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alidierung 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iagno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5791320"/>
            <a:ext cx="182880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1 Wenn Diagnose neue Ergebnisse liefert, wird der Patient erneut berate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itere Behandlungen oder Alternativtherapien durchführ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25600" y="352908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24160" y="4981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24160" y="6359400"/>
            <a:ext cx="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30280" y="7731000"/>
            <a:ext cx="0" cy="21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25600" y="8370720"/>
            <a:ext cx="0" cy="17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24160" y="4343400"/>
            <a:ext cx="0" cy="21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51055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t die Behandl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folgreich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90920" y="3276720"/>
            <a:ext cx="7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492800" y="4334040"/>
            <a:ext cx="6120" cy="382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35812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2680" y="7632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zesseigner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52680" y="30492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53352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52680" y="85248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Prozessend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114300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zessbegin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52680" y="138600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sswer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76320"/>
            <a:ext cx="266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304920"/>
            <a:ext cx="266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urchgeführte Behandl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5335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formationen aus Diagnose, Beratung und Patientenak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91120" y="8380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handlung ist durchgeführt und der Erfolg wurde bewert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91120" y="1143000"/>
            <a:ext cx="266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handlung ist beschloss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137160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tient ist mit Behandlung zufrieden &gt;= 80 % Leitung ist mit Behandlung zufrieden &gt;= 90 % Abgeschlossene Behandlungen &gt;= 95 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25600" y="289404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52680" y="3048120"/>
            <a:ext cx="838440" cy="41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zept erstell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55920" y="3616200"/>
            <a:ext cx="838080" cy="41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alidierung 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urchführ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70280" y="346860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24160" y="5702400"/>
            <a:ext cx="0" cy="2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14480" y="3562200"/>
            <a:ext cx="51120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5920" y="5902200"/>
            <a:ext cx="838080" cy="4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1 PB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atung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75080" y="5451480"/>
            <a:ext cx="7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82960" y="7229520"/>
            <a:ext cx="495000" cy="49536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27400" y="7013520"/>
            <a:ext cx="0" cy="21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48000" y="7267680"/>
            <a:ext cx="838080" cy="41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B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gnose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74960" y="5661000"/>
            <a:ext cx="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74960" y="4032360"/>
            <a:ext cx="0" cy="2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74960" y="4334040"/>
            <a:ext cx="72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733840" y="8158320"/>
            <a:ext cx="1761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76520" y="7477200"/>
            <a:ext cx="7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92428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rden exter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bieter in Anspruch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nommen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09880" y="5676840"/>
            <a:ext cx="30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19440" y="7277040"/>
            <a:ext cx="47304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29718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zim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39625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zim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45720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800100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zim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1055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51055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zim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60199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66294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72388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80010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4038480"/>
            <a:ext cx="1828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handlungstermine anhand 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ktuellen Belegung festleg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29200" y="6629400"/>
            <a:ext cx="1828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ch Abschluss der Behandlung wird der Erfolg gemess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742840" y="6095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733920" y="6324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9067680"/>
            <a:ext cx="6477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9144000"/>
            <a:ext cx="11430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  <a:ea typeface="Arial"/>
              </a:rPr>
              <a:t>Erstellt/Dat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  <a:ea typeface="Times New Roman"/>
              </a:rPr>
              <a:t>2004-06-2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9144000"/>
            <a:ext cx="99072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  <a:ea typeface="Times New Roman"/>
              </a:rPr>
              <a:t>Geprüft/Datu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2004-09-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81280" y="9144000"/>
            <a:ext cx="11430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  <a:ea typeface="Arial"/>
              </a:rPr>
              <a:t>Freigegeben/Dat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  <a:ea typeface="Times New Roman"/>
              </a:rPr>
              <a:t>2004-10-0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86400" y="9144000"/>
            <a:ext cx="11430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eite 1 von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Revision: 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9601200"/>
            <a:ext cx="4191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1" lang="de-CH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Copyright Martin Schaller, </a:t>
            </a:r>
            <a:r>
              <a:rPr b="1" lang="de-CH" sz="800" spc="-1" strike="noStrike" u="sng">
                <a:solidFill>
                  <a:srgbClr val="339933"/>
                </a:solidFill>
                <a:uFillTx/>
                <a:latin typeface="Arial"/>
                <a:ea typeface="Times New Roman"/>
              </a:rPr>
              <a:t>www.zaschaller-plauen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76520" y="9067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9067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9067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09800" y="3076560"/>
            <a:ext cx="390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7620120"/>
            <a:ext cx="390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304920"/>
            <a:ext cx="1109880" cy="490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Times New Roman"/>
              </a:rPr>
              <a:t>Z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Times New Roman"/>
              </a:rPr>
              <a:t>Martin Schaller Plau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12:07:07Z</dcterms:created>
  <dc:creator>Martin Schaller</dc:creator>
  <dc:description>
http://www.zaschaller-plauen.de</dc:description>
  <dc:language>en-US</dc:language>
  <cp:lastModifiedBy>Ein zufriedengestellter Microsoft Office-Anwender</cp:lastModifiedBy>
  <dcterms:modified xsi:type="dcterms:W3CDTF">2004-11-29T10:19:48Z</dcterms:modified>
  <cp:revision>120</cp:revision>
  <dc:subject>751.2 PB Behandlung</dc:subject>
  <dc:title>Handbuch</dc:title>
</cp:coreProperties>
</file>