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E27A-4A24-4A45-A525-0F81506D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3938-3AAD-4C92-A51D-989E8FB0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B53C-3BAD-4AC7-8351-79CC32A87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8BDC-A76C-4676-BECF-EE946F99F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8095-05C5-4020-9AAF-DCA93822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A44C-B442-4CD5-8815-937DCFB1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8DB1-8122-42C3-A90B-85A8614A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1BC8-5ABB-403A-8EA4-60670D02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948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C580-6D8D-42E3-A273-CA6F3492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A250-B725-4CA4-970C-36A3DEAE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BD11-494F-4CE8-B8EB-FF97EC1B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40DF-6788-481E-9784-9F39CD9E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3002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7000" indent="-23832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6520" indent="-23976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6640"/>
            <a:ext cx="1428840" cy="660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6640"/>
            <a:ext cx="2171520" cy="660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6640"/>
            <a:ext cx="1428480" cy="660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43BFA123-7EFA-41E4-9981-445C24A47568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2666880"/>
            <a:ext cx="838080" cy="4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efersch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stell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133720" y="3276720"/>
            <a:ext cx="838080" cy="41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duk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nehm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33720" y="4038480"/>
            <a:ext cx="838080" cy="4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duk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üf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33720" y="4800600"/>
            <a:ext cx="838080" cy="4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nnzeichnu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6324480"/>
            <a:ext cx="838080" cy="4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ruf Spedition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38400" y="7743960"/>
            <a:ext cx="838080" cy="41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enpfle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00280" y="7134120"/>
            <a:ext cx="838440" cy="4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B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nkung v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hler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8458200"/>
            <a:ext cx="519120" cy="495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00480" y="2190600"/>
            <a:ext cx="304560" cy="330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238400"/>
            <a:ext cx="0" cy="782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38400"/>
            <a:ext cx="0" cy="782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05520" y="1600200"/>
            <a:ext cx="0" cy="746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1523880"/>
            <a:ext cx="0" cy="754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238400"/>
            <a:ext cx="0" cy="782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1200240"/>
            <a:ext cx="12193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1752480"/>
            <a:ext cx="129528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la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kum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lfsmitt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1371600"/>
            <a:ext cx="22860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lauf / Tätigkeit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s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330120"/>
            <a:ext cx="18288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.5.5.1 PB Ver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2590920"/>
            <a:ext cx="18288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r Lieferschein kann in Form eones Begleitschreibens erstellt werd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3200400"/>
            <a:ext cx="18288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ispielsweise ein Röntgenbild aus der Ablage oder ein Befund aus dem Schriftverkeh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962520"/>
            <a:ext cx="17812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dukt auf optische Unversehrtheit prüf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29200" y="4648320"/>
            <a:ext cx="18288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s Produkt wird ggf. mit Name, Krankenkasse oder anderen Informationen gekennzeichn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65640" y="5951520"/>
            <a:ext cx="15400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5372280"/>
            <a:ext cx="182880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s Produkt wird so verpackt, dass es weder beschädigt werden kann noch dessen Qualität leid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29200" y="6953400"/>
            <a:ext cx="182880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üfung der Lieferung ggf. üb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s Intranet, ansonsten wird bei wichtigen Dokumenten ein kurzer Rückruf gestart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8077320"/>
            <a:ext cx="1828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flege der Patientenakte oder anderer wichtiger Dokum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666880"/>
            <a:ext cx="5331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zim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7086600"/>
            <a:ext cx="47304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6215000">
            <a:off x="339840" y="1229760"/>
            <a:ext cx="93816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Verant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wortli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32400">
            <a:off x="60840" y="1397160"/>
            <a:ext cx="7398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itarbei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708660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dukt geliefer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05080" y="7081920"/>
            <a:ext cx="495360" cy="49536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57440" y="2519280"/>
            <a:ext cx="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5562720"/>
            <a:ext cx="838080" cy="41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pack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05320" y="7734240"/>
            <a:ext cx="838080" cy="4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omunik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it dem Kund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52760" y="30812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57440" y="369576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52760" y="44578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48080" y="521964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52760" y="598176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547720" y="7581960"/>
            <a:ext cx="4680" cy="16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52760" y="67438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19680" y="754380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95760" y="7329600"/>
            <a:ext cx="70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14720" y="7515360"/>
            <a:ext cx="30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8153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33526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618984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pedition anrufen und Abnahme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ermin vereinbaren, wenn die Produkte per Spedition ausgeliefert werd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7467480"/>
            <a:ext cx="1828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 Fehlerfall bestimmt die Leitung das weitere Vorge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57240"/>
            <a:ext cx="220968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rzim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7632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zesseigner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52680" y="22860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37152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put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52680" y="63828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Prozessend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80028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zessbegin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100008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sswer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91120" y="228600"/>
            <a:ext cx="266688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nterlagen / Produkte sind versand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371520"/>
            <a:ext cx="22096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dukte, Verpackungsvorgaben, Produkteigenschaft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647640"/>
            <a:ext cx="266688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dukte verlassen das Ha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91120" y="809640"/>
            <a:ext cx="266688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dukt steht zum Versand 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981000"/>
            <a:ext cx="26668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ngekommene Sendungen &gt; 99 %, Beschädigungen an versandten Produkten =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971800" y="7924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4114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4844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56386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6400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78487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27432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4782960"/>
            <a:ext cx="5331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zim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7772400"/>
            <a:ext cx="5331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zim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7086600"/>
            <a:ext cx="5331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zim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7086600"/>
            <a:ext cx="53352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7772400"/>
            <a:ext cx="1828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lauf gemäss Kapitel 7 Abschnitt 7.2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9067680"/>
            <a:ext cx="6477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9144000"/>
            <a:ext cx="11430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  <a:ea typeface="Arial"/>
              </a:rPr>
              <a:t>Erstellt/Dat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  <a:ea typeface="Times New Roman"/>
              </a:rPr>
              <a:t>2004-06-2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81080" y="9144000"/>
            <a:ext cx="99072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  <a:ea typeface="Times New Roman"/>
              </a:rPr>
              <a:t>Geprüft/Dat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  <a:ea typeface="Times New Roman"/>
              </a:rPr>
              <a:t>2004-10-0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9144000"/>
            <a:ext cx="11430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  <a:ea typeface="Arial"/>
              </a:rPr>
              <a:t>Freigegeben/Dat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  <a:ea typeface="Times New Roman"/>
              </a:rPr>
              <a:t>2004-10-0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86400" y="9144000"/>
            <a:ext cx="11430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eite 1 von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Revision: 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9601200"/>
            <a:ext cx="4191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1" lang="de-CH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Copyright Martin Schaller, </a:t>
            </a:r>
            <a:r>
              <a:rPr b="1" lang="de-CH" sz="800" spc="-1" strike="noStrike" u="sng">
                <a:solidFill>
                  <a:srgbClr val="339933"/>
                </a:solidFill>
                <a:uFillTx/>
                <a:latin typeface="Arial"/>
                <a:ea typeface="Times New Roman"/>
              </a:rPr>
              <a:t>www.zaschaller-plauen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9067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9067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05520" y="9067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304920"/>
            <a:ext cx="1109520" cy="49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Times New Roman"/>
              </a:rPr>
              <a:t>ZA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Times New Roman"/>
              </a:rPr>
              <a:t>Martin Schaller Plau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4T12:07:07Z</dcterms:created>
  <dc:creator>Martin Schaller</dc:creator>
  <dc:description>
http://www.zaschaller-plauen.de</dc:description>
  <dc:language>en-US</dc:language>
  <cp:lastModifiedBy>Martin Schaller</cp:lastModifiedBy>
  <dcterms:modified xsi:type="dcterms:W3CDTF">2004-10-03T15:15:35Z</dcterms:modified>
  <cp:revision>90</cp:revision>
  <dc:subject>755.1 PB Versand</dc:subject>
  <dc:title>Handbuch</dc:title>
</cp:coreProperties>
</file>