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92D-128E-4E72-AFBC-7B8BF8E0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310-B2AE-4FED-BFDB-BADE0A1A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294-2E83-40F6-94D3-A00ECC25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9F4-0697-4E5C-9CC3-75324529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F13-FC11-462C-A521-D192D946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8E3-CF70-4E15-9EBA-74BC2076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6C0-8965-4CCF-913C-FB38406C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A70-F4FA-4141-83A1-90932F05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D7E-172E-4FFB-AD12-527C63CE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38DC-B33B-41CA-9051-38FB338F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E36-9148-4036-A949-590CED2C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38F-1FA2-4F3F-81D8-3026CD9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DEC506C-7DED-4E4F-A9FB-0C630125FFE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247644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mme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853452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1990800"/>
            <a:ext cx="30456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2133720"/>
            <a:ext cx="0" cy="693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205740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8380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20024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981080"/>
            <a:ext cx="1295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123920"/>
            <a:ext cx="243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30120"/>
            <a:ext cx="1752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4.0.1 PB Ster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4382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isation aller Produkte, die sterilisationsfähig und kontaminiert s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2819520"/>
            <a:ext cx="182880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h der Grobreinigung unter fließendem Wasser werden die Produkte in das Desinfektionsbad gelegt (Herstellerhinweis des verwendeten Mittels in Bezug auf die Verweildauer beachten!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5812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hdem die Produkte gesäubert sind, wird eine Prüfung auf Sauberkeit (optisch)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48006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e Produkte werden in geeignete Verpackungen eingeschweißt (Herstellerangaben beacht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54864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ung der Sterilisation anhand der vom Hersteller angegebenen Parame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7391520"/>
            <a:ext cx="182880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nn mehrere Teile oder die gesamte Sterilisation fehlgeschlagen ist, wird die Leitung informiert und das Problem gemäss der Prozessbeschreibung “Lenkung von Fehlern“ beseiti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822960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flege der Sterilisationsliste mit Angaben über die durchführende Person, Datum, Ergebnis, Anzahl der Produkte, abschliessende Wartung (Sauberkeit herstellen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26708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15000">
            <a:off x="478080" y="1091520"/>
            <a:ext cx="66204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32400">
            <a:off x="67320" y="1144800"/>
            <a:ext cx="6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67057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isation erfolgreich und alle Produkte in Ordnu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24200" y="833904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24160" y="23241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601992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ach Abkühlen der Teile wird der Sporenteststreifen auf farbliche Veränderung und die eingescheweissten Produkte auf Dichtheit geprü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85345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8006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üssen Produkte eingeschweisst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049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5335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85248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114300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4479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763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rzim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304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ur Sterilisation vorgesehene Produkte sind ster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5335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ntaminierte, sterilisierbare Produkte, Sterilisator, Herstellerangab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838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rchführung der Sterilisation und Einlagerung der Artikel an den vorgesehenen 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1143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mmeln der Produkte, welche zur Sterilisation anste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1433520"/>
            <a:ext cx="2666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0 % der anstehenden Teile sind sterilisiert, Desinfektionsbad nicht länger als vor 24 Stunden erneuert, Sporentestband hat angeschlagen = 100 %, Herstellerangaben zur Sterilisationsgeräten zu 100 % erfül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25600" y="289404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059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911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762012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1148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errung der nicht sauberen Teile und Aufbereitung bei der nächsten Sterilisation (Desinfektionsba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6705720"/>
            <a:ext cx="18288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nn nur einzelne Teile noch kontaminiert sind, werden diese ausgesondert, gesperrt und bei der nächsten Sterilisation wieder verarbeit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04812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nfek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5320" y="347508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4480" y="3629160"/>
            <a:ext cx="8380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inig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24160" y="40435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71800" y="419112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14440" y="47005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66760" y="48466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75080" y="443232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1240" y="4221000"/>
            <a:ext cx="83808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er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70040" y="5099040"/>
            <a:ext cx="7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7720" y="4890960"/>
            <a:ext cx="838080" cy="41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pack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897440"/>
            <a:ext cx="35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19480" y="53625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552132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525780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6197760"/>
            <a:ext cx="8384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üf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24160" y="5959440"/>
            <a:ext cx="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82960" y="6838920"/>
            <a:ext cx="49500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7400" y="662292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76520" y="7086600"/>
            <a:ext cx="7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6934320"/>
            <a:ext cx="4730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191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alle Teile saub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40080" y="68436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6629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nur einzelne Produkte missglück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73400" y="760572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“Lenk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n Fehler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4520" y="735660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27400" y="731844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7620120"/>
            <a:ext cx="380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09880" y="2666520"/>
            <a:ext cx="0" cy="154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4284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310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2840" y="5715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19600" y="7086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266652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80952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5867280"/>
            <a:ext cx="35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83059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80200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971440" y="8229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71800" y="7848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61960" y="7848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7620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67816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5627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62485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19112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8448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6576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5146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1240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2004-09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04920"/>
            <a:ext cx="1109520" cy="49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73152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46483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10:08Z</dcterms:modified>
  <cp:revision>120</cp:revision>
  <dc:subject>640.1 PB Sterilisation</dc:subject>
  <dc:title>Handbuch</dc:title>
</cp:coreProperties>
</file>