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913-3EDA-4DB6-9E4A-7D5ECA69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2DD3-1059-4777-9322-9BCEC1AA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5C8-AA0A-4D40-8DF8-76AE3307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52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F6E-18BD-4FB4-92A7-5692364A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009-AF85-4F21-965A-D194526E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F44-B2F4-485D-91BA-FDFAC94F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481-021E-4BFD-93AD-C6CA2B24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384E-4118-4DC7-B383-FCB901FD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48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FBB-C592-4A26-B450-B4C19CB0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21B-50D4-408A-B3BF-39FF3E96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52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2B6-56CB-4CD1-B289-765AFFFF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52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246-AAEC-4F39-B018-A3B118EE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3002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7000" indent="-2383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6520" indent="-2397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664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6640"/>
            <a:ext cx="217152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6640"/>
            <a:ext cx="1428480" cy="660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9BE777D-AF01-41B1-85AD-E8EFE5362D8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36232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inberufu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mmunik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8458200"/>
            <a:ext cx="519120" cy="495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09840" y="1838160"/>
            <a:ext cx="304920" cy="330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866880"/>
            <a:ext cx="0" cy="82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866880"/>
            <a:ext cx="0" cy="82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95800" y="1666800"/>
            <a:ext cx="9720" cy="762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705360" y="1644480"/>
            <a:ext cx="19080" cy="742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876240"/>
            <a:ext cx="0" cy="819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57240"/>
            <a:ext cx="22096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it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1676520"/>
            <a:ext cx="12952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blau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kum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066680"/>
            <a:ext cx="23623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lauf / Tätigkeiten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 Kommunikation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2860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3.3.1 PB Interne Kommunik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28600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inzel- oder Routinekommunik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on gemäss Plan oder ausserordentlichem An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3652920"/>
            <a:ext cx="182880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alls Termin oder Massnahme nicht eingehalten wird gemäss Prozessbeschreibsung “Lenkung von Fehlern“ verfahr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65640" y="5951520"/>
            <a:ext cx="1540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5603760"/>
            <a:ext cx="1828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üfung durch d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scheidungsträ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15000">
            <a:off x="317520" y="977400"/>
            <a:ext cx="93816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Verant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wortli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32400">
            <a:off x="22680" y="1176480"/>
            <a:ext cx="739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560" rIns="795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tarbe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4376880"/>
            <a:ext cx="83808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sprech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uer Punk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37339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nkte gemä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 abgearbeit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2971800"/>
            <a:ext cx="838080" cy="5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sprechung 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lt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assnahmeplä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29718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i Bedarf Besprechung von Punkten der letzten internen Kommunik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60958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aillierte Schilderung des Problems, der Massnahme, des Termins und der Verantwortlic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05080" y="369576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362320"/>
            <a:ext cx="685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rch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ühr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433872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ei grösseren Besprech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it Agenda müssen die Entscheidungsträger vor Ort s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67160" y="217656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6600" y="3733920"/>
            <a:ext cx="37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05080" y="5557680"/>
            <a:ext cx="495360" cy="495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55627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e und Inha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emesse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6750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tokoll kann auch in Form einer Notiz gesche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6848640"/>
            <a:ext cx="83808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stell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tok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47840" y="412920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73915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lls neue Besprechu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wendig , wird der Termin im Protokoll eingetra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00100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sgaben an Beteilig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4971960"/>
            <a:ext cx="838080" cy="40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stlegen v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ssnah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8096400"/>
            <a:ext cx="83808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sgabe gemä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tei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2760" y="277668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52760" y="351468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52760" y="419112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52760" y="478152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52760" y="537696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52760" y="605304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52760" y="665784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52760" y="7262640"/>
            <a:ext cx="0" cy="20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52760" y="7862760"/>
            <a:ext cx="0" cy="23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495288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ssnahmen müssen geeignet sein, um das gewünschte Ziel zu erreic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8000" y="5486400"/>
            <a:ext cx="37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3733920"/>
            <a:ext cx="838440" cy="41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nkung v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hlern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6238800"/>
            <a:ext cx="838080" cy="4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stellu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ssnahmenp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7467480"/>
            <a:ext cx="838080" cy="40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stlegen 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ächsten  intern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mmunik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52760" y="8501040"/>
            <a:ext cx="876240" cy="1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00440" y="39434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00680" y="4152960"/>
            <a:ext cx="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609640" y="4243320"/>
            <a:ext cx="13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805120" y="5800320"/>
            <a:ext cx="504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304800" y="5172120"/>
            <a:ext cx="468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971440" y="517212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628956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763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eign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049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335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7621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Prozess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9907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zessbegin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1219320"/>
            <a:ext cx="106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sswer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304920"/>
            <a:ext cx="26668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urchführung qualifizierter Besprech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533520"/>
            <a:ext cx="22096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ktuelle Fragestellung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743040"/>
            <a:ext cx="26668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e Probleme, Themen sind besproc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971640"/>
            <a:ext cx="26668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darf an einer Besprechung ist erkan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1200240"/>
            <a:ext cx="26668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hler aufgrund mangelnder interner Kommunikation &lt; 5 per an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89940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746748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8118360"/>
            <a:ext cx="685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Vorzim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83818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7543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3244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693432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49528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556272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36576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43434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36232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971800"/>
            <a:ext cx="685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rch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ühr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4343400"/>
            <a:ext cx="685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rch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ühr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4952880"/>
            <a:ext cx="685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rch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ühr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5562720"/>
            <a:ext cx="685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rch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ühr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657600"/>
            <a:ext cx="685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rch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ühre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9067680"/>
            <a:ext cx="6477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440" y="9151920"/>
            <a:ext cx="6492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Erstellt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06-2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9144000"/>
            <a:ext cx="99072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Times New Roman"/>
              </a:rPr>
              <a:t>Geprüft/Datu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2004-9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9144000"/>
            <a:ext cx="11430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  <a:ea typeface="Arial"/>
              </a:rPr>
              <a:t>Freigegeben/Dat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  <a:ea typeface="Times New Roman"/>
              </a:rPr>
              <a:t>2004-10-0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9144000"/>
            <a:ext cx="1143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ite 1 von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vision: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9601200"/>
            <a:ext cx="419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1" lang="de-CH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opyright Martin Schaller, </a:t>
            </a:r>
            <a:r>
              <a:rPr b="1" lang="de-CH" sz="800" spc="-1" strike="noStrike" u="sng">
                <a:solidFill>
                  <a:srgbClr val="339933"/>
                </a:solidFill>
                <a:uFillTx/>
                <a:latin typeface="Arial"/>
                <a:ea typeface="Times New Roman"/>
              </a:rPr>
              <a:t>www.zaschaller-plauen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9067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04920"/>
            <a:ext cx="1109520" cy="490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ZA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Times New Roman"/>
              </a:rPr>
              <a:t>Martin Schaller Plau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12:07:07Z</dcterms:created>
  <dc:creator>Martin Schaller</dc:creator>
  <dc:description>
http://www.zaschaller-plauen.de</dc:description>
  <dc:language>en-US</dc:language>
  <cp:lastModifiedBy>Ein zufriedengestellter Microsoft Office-Anwender</cp:lastModifiedBy>
  <dcterms:modified xsi:type="dcterms:W3CDTF">2004-11-29T10:20:48Z</dcterms:modified>
  <cp:revision>288</cp:revision>
  <dc:subject>533.1 PB Interne Kommunikation</dc:subject>
  <dc:title>Handbuch</dc:title>
</cp:coreProperties>
</file>