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A9B-0BC6-4D0D-8240-E3E8AF79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083-8DB5-418E-9DA3-55985D69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96F-BF4D-4AD5-B00D-49E34FBB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079-B629-4694-A917-19ABD9D3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E67-5BF1-45DA-8B6C-428B0453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5C5-E3D5-4578-956E-F87C7D74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586-3896-4383-9FBB-DCE961C2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0C6-D622-4093-8989-713EFB7C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C44-A74F-41CC-9B17-24982666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941-CDCA-47DD-90FC-44F85E93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75D-0F1E-4948-A87C-3BCD7DBE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65F4-CB3F-483F-AACF-45188CEF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DAB629F-4C49-46DB-AEF1-DCCDF118D95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133720"/>
            <a:ext cx="8380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stimmung 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ditoren /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rstellung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ditpla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358128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 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roffen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teil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418608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füh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 Aud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617220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snahmen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ür geri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weich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stell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9800" y="689616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prüfen 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weich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8381880"/>
            <a:ext cx="51912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66840" y="1600200"/>
            <a:ext cx="30492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33480"/>
            <a:ext cx="0" cy="828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933480"/>
            <a:ext cx="0" cy="828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676520"/>
            <a:ext cx="0" cy="754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1600200"/>
            <a:ext cx="0" cy="762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933480"/>
            <a:ext cx="0" cy="828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00200"/>
            <a:ext cx="129564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066680"/>
            <a:ext cx="2362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 / Tätigkei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s Au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330120"/>
            <a:ext cx="1752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2.2.1 PB Internes 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20968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hlt ein geeigneter Audit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rden Externe verpflicht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97180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i Bedarf mit Ergänzung der Auditfragelis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26708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führung mit den Mitarbeitern und der 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541008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i schweren Abweichungen we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n die Massnahmen mit der Leitung festgeleg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65640" y="5646600"/>
            <a:ext cx="15400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617220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 Massnahmen können bereits konkrete Vorschläge des Audit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hal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685800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 Wirksamkeit wird durch Stich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en überprü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23888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urde eine Massnahme nicht ordnungsgemäss abgestellt, wi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ie als kritische Abweichung behand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20968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15000">
            <a:off x="339840" y="1229760"/>
            <a:ext cx="93816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Verant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wortl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32400">
            <a:off x="60840" y="1244880"/>
            <a:ext cx="739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tarbe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75438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urden a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weich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ksam beseitig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66760" y="478152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556272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rstellung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ditberich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81160" y="750564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4800600"/>
            <a:ext cx="83844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rstellung 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ditberich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5410080"/>
            <a:ext cx="83844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rrektu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assnah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830592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gabe 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terla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84582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ung 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bess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24160" y="19335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24160" y="267192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2416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24160" y="40006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14440" y="460548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28840" y="598176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4440" y="528156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19480" y="671040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28840" y="731520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28840" y="800100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62120" y="502920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72080" y="52196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784872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analy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8686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8915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95480" y="8077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8077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8610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2480" y="826776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71840" y="7753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72080" y="582948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738160" y="643896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62640" y="5614920"/>
            <a:ext cx="0" cy="21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186080" y="561024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73152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4876920"/>
            <a:ext cx="47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5257800"/>
            <a:ext cx="4730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808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urden kritis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weich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stgestell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80089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365760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 mindestens 3 Mon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r dem Audit, siehe Termin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800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stellung des Berichts mit den festgestellten Abweich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7772400"/>
            <a:ext cx="1828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chivierung der Abweichungen, wobei diese beim nächsten Audit nochmals überprüft werden, die Daten fliessen in die statistische Auswertung ein. Sie werden be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r ständigen Verbesserung berücksichtig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86868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i möglichen Verbesser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ird gemäss der PB “Vorbeuge- und Korrekturmassnahmen“ verfahr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89548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191120"/>
            <a:ext cx="533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800600"/>
            <a:ext cx="533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5268960"/>
            <a:ext cx="533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5638680"/>
            <a:ext cx="533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324480"/>
            <a:ext cx="533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7543800"/>
            <a:ext cx="533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76800" y="276120"/>
            <a:ext cx="25905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nes Audit ist durchgefüh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704880"/>
            <a:ext cx="2514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wertungen sind nach Audit abgeschlossen, Abweichungen wurden bearbeit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76800" y="971640"/>
            <a:ext cx="2666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nes Audit steht 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1219320"/>
            <a:ext cx="26672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erzögerungen bei der Durchführung &lt; 2 Woche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stgestellte Abweichungen &lt; 5 pro Jah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255276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76800" y="133200"/>
            <a:ext cx="22096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12384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eign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049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4287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6951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ozess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9619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begin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12193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wer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28760"/>
            <a:ext cx="2210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uditfragelisten, Informationen aus allen Prozessen und Vorkommnis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95400" y="2895480"/>
            <a:ext cx="83844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ditfragelis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überarbei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6324480"/>
            <a:ext cx="533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289548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58128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853452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525780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480060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4191120"/>
            <a:ext cx="533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58128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220968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7543800"/>
            <a:ext cx="533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784872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822960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853452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792468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6934320"/>
            <a:ext cx="5331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di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9220320"/>
            <a:ext cx="6477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922032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Erstell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6-2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9220320"/>
            <a:ext cx="9907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Times New Roman"/>
              </a:rPr>
              <a:t>Geprüf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922032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Freigegeben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9220320"/>
            <a:ext cx="1143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ite 1 vo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on: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969156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Martin Schaller, </a:t>
            </a:r>
            <a:r>
              <a:rPr b="1" lang="de-CH" sz="800" spc="-1" strike="noStrike" u="sng">
                <a:solidFill>
                  <a:srgbClr val="339933"/>
                </a:solidFill>
                <a:uFillTx/>
                <a:latin typeface="Arial"/>
                <a:ea typeface="Times New Roman"/>
              </a:rPr>
              <a:t>www.zaschaller-plauen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9220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9220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9220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304920"/>
            <a:ext cx="1109520" cy="49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Z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Martin Schaller Pla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2:07:07Z</dcterms:created>
  <dc:creator>Martin Schaller</dc:creator>
  <dc:description>
http://www.zaschaller-plauen.de</dc:description>
  <dc:language>en-US</dc:language>
  <cp:lastModifiedBy>Martin Schaller</cp:lastModifiedBy>
  <dcterms:modified xsi:type="dcterms:W3CDTF">2004-10-03T15:29:36Z</dcterms:modified>
  <cp:revision>102</cp:revision>
  <dc:subject>822.1 PB Internes Audit</dc:subject>
  <dc:title>Handbuch</dc:title>
</cp:coreProperties>
</file>