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0E9-B2D4-464D-A020-8B2A8678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6B6-2B12-407F-AC79-4B444BF8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2AFC-2410-4D83-8006-27558220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94E-DA52-44C6-88DC-5B7B7BD7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6DA-C22A-40DB-937D-8A780FE3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457-489E-4A62-970F-9C4A73E1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B9A-DA3C-4224-B41B-6DA565E5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22B-4823-4191-A20F-E0A8415C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368-7053-4158-8ACD-6FD4C0DD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612-E1AD-4486-803D-BB9AA56B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C9D-7B75-49A4-902C-E6E0DD62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9E0-7568-4772-9650-3432E9E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1913943-0B23-4915-981D-FBB6A62FDDC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476440"/>
            <a:ext cx="838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erminverein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a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656160"/>
            <a:ext cx="8380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rber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3320" y="4255920"/>
            <a:ext cx="83844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647712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erfass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8153280"/>
            <a:ext cx="51912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71880" y="1990800"/>
            <a:ext cx="30456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1828800"/>
            <a:ext cx="0" cy="72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05720" y="1828800"/>
            <a:ext cx="0" cy="72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120024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1828800"/>
            <a:ext cx="1295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123920"/>
            <a:ext cx="243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 / Tätigkei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30120"/>
            <a:ext cx="17524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5.1.1 PB Diagn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38752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lärung der grundsätzlic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ge, ob ein Termin in der Praxis oder ein Hausbesuch durchgeführt w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04308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Erfassung kann auch tele-fonisch oder per Fax stattfin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530520"/>
            <a:ext cx="1771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fnahme des Patienten ggf. in die Warteliste (abhängig vom Zeitpunkt des Erscheinens), Vorbereitung der Patientenak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951520"/>
            <a:ext cx="1540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79592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riftliche Erfassung der wichtigsten Informationen  sowie zum Eindruck des Patien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5181480"/>
            <a:ext cx="175248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Diagnose kann gestell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rden, wenn genug Symptome eingegrenzt wurden. Kann eine eindeutige Diagnose nicht getroffen werden, erfolgt die Überweisung zu einem Facharz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697536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auf gemäss der Prozessbeschreibung “Behandlung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49304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r Zustand des Patienten mu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ür alle Seiten zufriedenstellend hergestellt s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30600" y="551196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15000">
            <a:off x="478080" y="1091520"/>
            <a:ext cx="6620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32400">
            <a:off x="67320" y="1144800"/>
            <a:ext cx="6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04840" y="748656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gnose 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hand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folgreich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76480" y="548172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482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76480" y="3024360"/>
            <a:ext cx="495360" cy="495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4160" y="23241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09800" y="307656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702000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 “Behandlung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594360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lls die Diagnose nicht mögli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t, werden weitere Informationen gesammelt und/oder Überweisung an andere Fach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5410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Diagn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stellt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67160" y="3276720"/>
            <a:ext cx="7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683240" y="4470480"/>
            <a:ext cx="7920" cy="33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8098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763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049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5335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852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10666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809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763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3049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gnose ist gestel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5335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formationen des Patienten, Vorgeschichte, Röntgenbilder us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83808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gnose ist durchgefüh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066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gnose steht an (durch Meldung, Patient, nach Behandlung oder sonstige Anläs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3809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chliche Richtigkeit der Diagnose = 95 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25600" y="28940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43320" y="3067200"/>
            <a:ext cx="838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erfass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3429000"/>
            <a:ext cx="5112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1520" y="5521320"/>
            <a:ext cx="83844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Überweis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71840" y="572940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818208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erfass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67040" y="348624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9718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ient / Ku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eits i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bestan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9120" y="650088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00640" y="647712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" y="2940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733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81532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410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10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629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71010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421632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tient / Kunde wird  nach den aktuellen Beschwerde befrag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en werden zum Gesundheitszustand gesamm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647712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festgelegte Behandlungsdauer wird mit vorläufigen Terminen dokumenti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8381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24160" y="689148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76480" y="755820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24160" y="352440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28840" y="411948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738160" y="38768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80996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T-Aufnah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46720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4160" y="522936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4160" y="598176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24160" y="743904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24160" y="805824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14680" y="606276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62360" y="593892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757320" y="6558120"/>
            <a:ext cx="4680" cy="11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38160" y="6676920"/>
            <a:ext cx="10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71840" y="7805880"/>
            <a:ext cx="21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38520" y="4467240"/>
            <a:ext cx="193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10040" y="631044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424400" y="5011560"/>
            <a:ext cx="0" cy="12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38520" y="5010120"/>
            <a:ext cx="168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480060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59878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gnose n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charztbesu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öglich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838188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71800" y="7981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4267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2670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8006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47847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638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1866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75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629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70866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807732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schluss der Patientenakte, statistische Auswertung der Diagnose und Behandlung soweit mögli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82296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0481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5146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067680"/>
            <a:ext cx="6477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9144000"/>
            <a:ext cx="9907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9-1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914400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96012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 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"/>
            <a:ext cx="1109880" cy="49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6019920"/>
            <a:ext cx="39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Martin Schaller</cp:lastModifiedBy>
  <dcterms:modified xsi:type="dcterms:W3CDTF">2004-09-18T21:02:07Z</dcterms:modified>
  <cp:revision>130</cp:revision>
  <dc:subject>751.1 PB Diagnose</dc:subject>
  <dc:title>Handbuch</dc:title>
</cp:coreProperties>
</file>