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831-1B7F-4778-B593-BAAF9651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CD9-6108-4907-8B59-8603F284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B92-8854-4F5E-A827-FACE7D8A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192-9FAD-4181-9290-6E1B9CAD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780-EA56-4E37-A226-E3DBCFA0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D7B-E8C2-47F0-95F4-7957A08D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C75-999D-4CB5-AF53-D2D176B4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18C-AF6E-4A1E-82EE-4F887571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48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CF2-B16D-4613-8C10-F5E8A05B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A6C-0D68-41AD-BBC2-1645706B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4F1-F7ED-4A92-9AC1-7D9F356F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EBE9-1EDC-486F-84DC-8C96A492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3002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078BE03-5A5C-4B42-B3A5-96C0F95F56F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66688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darf erkenn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33720" y="346716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lemanaly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429264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sprech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rchführ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511812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sprechung 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roffen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eic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660384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rstellung, Freig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 und Umsetz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assnahme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817236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schlu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ssnahmen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71760" y="7399440"/>
            <a:ext cx="83844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nkung v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hler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8534520"/>
            <a:ext cx="507960" cy="4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68600" y="232416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67160" y="30765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65360" y="3886200"/>
            <a:ext cx="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4711680"/>
            <a:ext cx="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48080" y="5526000"/>
            <a:ext cx="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22440" y="1984320"/>
            <a:ext cx="30492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3680" y="8604360"/>
            <a:ext cx="112392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795760" y="7599240"/>
            <a:ext cx="57132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40160" y="784080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33520" y="7873920"/>
            <a:ext cx="270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48080" y="6356520"/>
            <a:ext cx="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22720" y="6292800"/>
            <a:ext cx="2822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7432560"/>
            <a:ext cx="6429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48080" y="70102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238400"/>
            <a:ext cx="0" cy="782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238400"/>
            <a:ext cx="0" cy="782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1676520"/>
            <a:ext cx="0" cy="739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05720" y="1600200"/>
            <a:ext cx="0" cy="746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238400"/>
            <a:ext cx="0" cy="782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120024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1676520"/>
            <a:ext cx="12952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kum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295280"/>
            <a:ext cx="2362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blauf / Tätigkei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orbeuge- / Korrekturmassnahm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330120"/>
            <a:ext cx="19051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.5.2.1  8.5.3.1 PB Vorbeuge- / Korrektur- massnah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2533680"/>
            <a:ext cx="16002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fgrund von Auswertung 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gf. Kundenwünschen oder sonstigen Vorkommnis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3301920"/>
            <a:ext cx="16002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s Problem muss schriftlich mit möglichen Folgeproblemen eingegrenzt wer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00400" y="735156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4300560"/>
            <a:ext cx="1676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sprechung des Problems 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r möglichen Massnah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502920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s Problem wird besproc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d mögliche Massnahm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rden vorgeschlagen, Verme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 Massnahmen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65640" y="5951520"/>
            <a:ext cx="1540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586116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ksam sind Massnahme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nn sie den gewünschten Erfolg erbri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647712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r Massnahmenplan beinhalt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leme, Massnahme, Term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antwortung, Tag 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prüf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7238880"/>
            <a:ext cx="18288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mäss Prozessbeschreibung “Lenkung von Fehlern“ (8.3.1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e Massnahme ist erfolgre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mgesetzt, wenn das Proble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cht oder nicht mehr auftri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8077320"/>
            <a:ext cx="16765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bschliessend: Information v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troffenen Bereichen und der 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72412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971800" y="36320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86040" y="6114960"/>
            <a:ext cx="1647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36840" y="5956200"/>
            <a:ext cx="4730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15000">
            <a:off x="339840" y="1229760"/>
            <a:ext cx="93816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Verant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wortli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32400">
            <a:off x="60840" y="1397160"/>
            <a:ext cx="739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tarbe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419720" y="3638520"/>
            <a:ext cx="0" cy="39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213080" y="7588080"/>
            <a:ext cx="20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5951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ann eine wirks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beugemassnah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umgesetzt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7238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ssnah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folgreich umgesetz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00400" y="586728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76320"/>
            <a:ext cx="22096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763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eign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2286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5047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67644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rozess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92376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begin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10484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sswer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28600"/>
            <a:ext cx="26668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ssnahmen sind getroffen und wirksam umgesetz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504720"/>
            <a:ext cx="22096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rkenntnisse aus Prüfungen aller 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657360"/>
            <a:ext cx="26668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Vorbeuge- und Korrekturmassnahmen sind getroffen, umgesetzt und geprü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933480"/>
            <a:ext cx="26668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bschluss von Prüfungen, neue Kenntni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1085760"/>
            <a:ext cx="26668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ingeführte Verbesserungen / Korrekturen sind wirksam umgesetzt = 100 %, Fehler nach Umsetzen von Massnahmen &lt; 3 pro Jah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50532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18148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01992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662940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731520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815328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3505320"/>
            <a:ext cx="5335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4343400"/>
            <a:ext cx="5335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6019920"/>
            <a:ext cx="5335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7315200"/>
            <a:ext cx="5335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8153280"/>
            <a:ext cx="5335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5210280"/>
            <a:ext cx="533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tei-lig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067680"/>
            <a:ext cx="6477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Erstell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06-2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9144000"/>
            <a:ext cx="99072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Times New Roman"/>
              </a:rPr>
              <a:t>Geprüft/Datu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2004-10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Freigegeben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10-0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9144000"/>
            <a:ext cx="1143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ite 1 von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ion: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9601200"/>
            <a:ext cx="419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Martin-Schaller, </a:t>
            </a:r>
            <a:r>
              <a:rPr b="1" lang="de-CH" sz="800" spc="-1" strike="noStrike" u="sng">
                <a:solidFill>
                  <a:srgbClr val="339933"/>
                </a:solidFill>
                <a:uFillTx/>
                <a:latin typeface="Arial"/>
                <a:ea typeface="Times New Roman"/>
              </a:rPr>
              <a:t>www.zaschaller-plauen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80880"/>
            <a:ext cx="1109520" cy="49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Z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Martin Schaller Plau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12:07:07Z</dcterms:created>
  <dc:creator>Martin Schaller</dc:creator>
  <dc:description>
http://www.zaschaller-plauen.de</dc:description>
  <dc:language>en-US</dc:language>
  <cp:lastModifiedBy>Ein zufriedengestellter Microsoft Office-Anwender</cp:lastModifiedBy>
  <dcterms:modified xsi:type="dcterms:W3CDTF">2004-11-29T10:21:39Z</dcterms:modified>
  <cp:revision>67</cp:revision>
  <dc:subject>852.1 853.1 PB Vorbeuge- Korrekturmaßnahme</dc:subject>
  <dc:title>Handbuch</dc:title>
</cp:coreProperties>
</file>