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057-526D-43F9-AD69-F9B12082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3D8-4616-4035-82A6-B4E922BC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9A0-7565-42CD-AA75-5CECC6D5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DD4-3DDC-48C7-B289-3B082B2C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161-C8C3-4643-855F-8F9B60A7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9D19-A99B-4FCC-9ABE-455E6B1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EE9-E279-4FDA-9D1B-50812CCB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2D1-F4C9-4D96-9659-C7075BD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22E-8B61-4E0F-8B1C-9E5B2E98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861-9860-409E-8171-A6CF7FE3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253-E2AD-4239-8122-4BCAD10A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9D1-E0E2-462D-84EE-CC37A3F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9798E45-80DD-4EED-8C15-47C0915BD77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7644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erminverein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ar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376560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ber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468936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a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555948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erfa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3240" y="778176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1880" y="1990800"/>
            <a:ext cx="30456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828800"/>
            <a:ext cx="0" cy="72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828800"/>
            <a:ext cx="0" cy="72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8604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123920"/>
            <a:ext cx="243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rat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0120"/>
            <a:ext cx="1828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5.1.3 PB Bera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4382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t dem Kunden / Patienten wird ein geeigneter Termin vereinbart oder Beratung wird sofort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99736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usätzliche Information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 Kammern, Verbände, Organisationen und andere Quellen samme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6910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hand der ersten Informationen und den wissenschaftlichen Erkenntni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69595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chluss der Patientenakte, Einleitung der Abrechnung, Datenanalyse (statistische Erfassu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18148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15000">
            <a:off x="472680" y="1087560"/>
            <a:ext cx="66348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32400">
            <a:off x="30960" y="1111680"/>
            <a:ext cx="765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32304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t die Beratung das gewünschte Ziel erre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7086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analyse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438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81160" y="30337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23241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9800" y="307656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52456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Ziel und der Weg zur Erreichung wird in der Patientenakte skizziert (siehe auch Anforderungen der Krankenkas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7400" y="4229280"/>
            <a:ext cx="0" cy="45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327672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724280" y="3257640"/>
            <a:ext cx="3240" cy="33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9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04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533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852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11430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3860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763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04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rchgeführte Bera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5335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en aus Diagnose, Behandlung, Patientenakte und Patientenwun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ratung ist durchgeführt und der Erfolg wurde bewer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14300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darf an Beratung ist erkan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371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hat Beratung verstanden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mgesetzt &gt;= 90 %, inhaltliche Richtigkeit der Beratung = 100 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25600" y="289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048120"/>
            <a:ext cx="83844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formation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amml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27400" y="352728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505320"/>
            <a:ext cx="511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85840" y="63118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09800" y="29242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zum Th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reiche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han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048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809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7162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800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5562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6248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42480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fragung zur Problematik bzw. Untersuchung. Nach de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meln von ausreichend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 wird nach entsprechender Schlussfolgerung dem Patient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 Rat erteilt. Der Rat beinhal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Analyse der Situation, die möglichen Folgen und den geeigneten Weg zur Erreich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 gewünschten Zie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62485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s Ziel ist erreicht, wenn die Problematik für den Patienten dauerhaft erklärlich ist oder abgestellt wur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85720" y="3262320"/>
            <a:ext cx="543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27400" y="5108400"/>
            <a:ext cx="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0280" y="5975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27400" y="68137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27400" y="75088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81200" y="6562800"/>
            <a:ext cx="215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2080" y="347184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38520" y="3995640"/>
            <a:ext cx="1023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5627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10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-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"/>
            <a:ext cx="110952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20:05Z</dcterms:modified>
  <cp:revision>121</cp:revision>
  <dc:subject>751.3 PB Beratung</dc:subject>
  <dc:title>Handbuch</dc:title>
</cp:coreProperties>
</file>