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60F-BAC4-4878-9FB3-D7D0270A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B05-6570-4A6E-AB0C-16141A6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0CE7-3DF4-4387-8EA2-76B43CF2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2CB-39CD-4B4E-AE08-D72CD0AB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3422-6253-4FD3-93C4-91E0E92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4A1-B538-42D6-90A8-FFB6F7A2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646-DBA8-4FE9-9A0F-710FF62F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D70-854F-4F9F-8A3F-CB879F7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408-18F3-4D26-9B2C-413F222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856-AD18-4587-BCB7-680C72D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DF3-399A-4C77-868B-A7E6D2F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365-506E-4A5D-8CE8-6FD0695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15AC60B-2778-4DA4-A95D-53A4BEF5EFF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gre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3276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eigne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le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40384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xie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5562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le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14720" y="6296040"/>
            <a:ext cx="8096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gabe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sher erkann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845820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00480" y="1967040"/>
            <a:ext cx="30456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523880"/>
            <a:ext cx="0" cy="754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1523880"/>
            <a:ext cx="0" cy="754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676520"/>
            <a:ext cx="129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371600"/>
            <a:ext cx="2362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nkung von Fehle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30120"/>
            <a:ext cx="175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3.1.1 PB  Lenkung von Fehl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4382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chreibung des Fehlers mit Ursachen, je nach Ermessen schriftl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276720"/>
            <a:ext cx="1676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Massnahme muss geeignet sein, um das Problem dauerhaft abzu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962520"/>
            <a:ext cx="167652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nn nötig, wird die Umsetzung in schriftlicher Form festgehal-ten. Bei Bedarf kann die Leitung oder das Vorzimmer befrag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4648320"/>
            <a:ext cx="167652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Verantwortlichen werden genau in die Massnahme eingewiesen. Wo notwendig, wird eine schriftliche Mitteilung mit Massnahmen und Termin erstel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486400"/>
            <a:ext cx="1676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eitpunkte der Zwischenprüfung bzw. der abschliessenden Prüfung werden festgel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61722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Fehler ist abgestellt, wenn zu erwarten ist, dass er nicht wieder auftri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787716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age der Daten und Dokumente an den vorgesehenen 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5146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27672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eru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962520"/>
            <a:ext cx="609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96252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ung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5627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71629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41148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15000">
            <a:off x="339840" y="122976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32400">
            <a:off x="60840" y="139716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6324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er Fe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uerhaft abgestell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7086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analy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79246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83876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562720"/>
            <a:ext cx="838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eru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324480"/>
            <a:ext cx="8384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63054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a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4800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antwort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le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8917400">
            <a:off x="2367000" y="6323040"/>
            <a:ext cx="349200" cy="3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4200" y="2298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2760" y="29275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2760" y="3689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2760" y="4459320"/>
            <a:ext cx="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52182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0160" y="597528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0" y="6750000"/>
            <a:ext cx="468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46280" y="7499520"/>
            <a:ext cx="0" cy="42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6280" y="8337600"/>
            <a:ext cx="65412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8917400">
            <a:off x="3257640" y="6329160"/>
            <a:ext cx="34920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95760" y="650088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65530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6040" y="651024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0000" y="6153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gabe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29000" y="2742840"/>
            <a:ext cx="0" cy="35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419360" y="2743200"/>
            <a:ext cx="4680" cy="354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65530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2900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718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8355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eru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c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80773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697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swertung der Fehler anhand einer Pareoanalys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erfahren gemäss Kapitel 8 Abschnitt 8.4 “Datenanalyse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32440" y="6629400"/>
            <a:ext cx="18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gabe mit allen notwendigen Dokumen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8568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228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3808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573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9237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1811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2860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hler ist abgestellt, beseitigt oder unter Kontro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38088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 Informationen, die zur Bearbeitung und Beseitigung des Fehlers die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63828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hler ist kontrolliert, weitere Massnahmen sind nicht notwend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90504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hler wird entdeckt, besondere Massnahmen zur Abstellung sind notwend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16208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seitigte Fehler = 100 %, Fehler, welche nicht wieder aufgetreten sind &lt;= 90 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182000"/>
            <a:ext cx="8384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8077320"/>
            <a:ext cx="8380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10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-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110988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67816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21:02Z</dcterms:modified>
  <cp:revision>98</cp:revision>
  <dc:subject>831.1 PB Lenkung von Fehlern</dc:subject>
  <dc:title>Handbuch</dc:title>
</cp:coreProperties>
</file>