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9CB-5F28-41F2-9DCB-1593DC2D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872-90F1-41A3-B0F1-0E7B581C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E2F-3038-44FD-8CB8-9270AF4C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2B2-1DDB-4FDA-A468-92CECF8C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DC2-932C-4E21-A0E2-3672D345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106-16C5-4B87-88C5-3276C4C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BDA-8661-44F2-AE87-2E2170BA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158-ABA9-4A9D-B388-2495B8FE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617-9CA4-4057-8576-7F216C2A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EA4-15DF-419E-BB69-FFD6CBE7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036-AC25-4D93-978E-E6E23C74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A3B-56BE-4C75-86BA-A63741D3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5395C24-E4B4-484C-BFCD-CAE2F4DE94C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6576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samm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95360" y="7305840"/>
            <a:ext cx="519120" cy="49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5440" y="1909800"/>
            <a:ext cx="3049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676520"/>
            <a:ext cx="0" cy="739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1676520"/>
            <a:ext cx="0" cy="739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238400"/>
            <a:ext cx="0" cy="782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20024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67652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2210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swahl Lieferant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30120"/>
            <a:ext cx="175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4.1.1 PB Auswahl Lieferan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28600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 Beschaffung eines Produkts oder wenn weniger als 2 Liefe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nten vorhanden sind. Diese Regelung gilt nicht bei Monopol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ieferan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9718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delt es sich um Katalogware oder eine besondere/spezielle War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1148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as Muster oder Beispieldatenpr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ukte sollen die Qualität des Lie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eranten bewei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15000">
            <a:off x="339840" y="122976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32400">
            <a:off x="60840" y="139716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8672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ste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ugelasse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ferant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59342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spricht d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bestellung 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rstellung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05080" y="29908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3390840"/>
            <a:ext cx="457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l Standard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zogen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7242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Lieferant wird in die Liste der zugelassenen Lieferanten aufgenom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40984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eferantens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ht 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66960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8080" y="22384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426708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ford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44824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bestel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2760" y="282420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47720" y="3486240"/>
            <a:ext cx="468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47720" y="4076640"/>
            <a:ext cx="4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547720" y="4676760"/>
            <a:ext cx="468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8080" y="65102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2760" y="711036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943600"/>
            <a:ext cx="533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64771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505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uche am Markt mittels Katalogen, Probelieferungen, Mustern, Markt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formationen, Prospekten, techni-schen Merkblättern, Internet us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5257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 der Erstbestellung wird zu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ächst eine möglichst geringe Me-nge des Produkts bestellt, 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ann auch eine Probeliefer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oder Musterlieferung bestellt wer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Leitung wird in die Entscheidung einbezog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00400" y="60102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8080" y="58579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2760" y="52815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00440" y="3238560"/>
            <a:ext cx="21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5080" y="3238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567684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90720" y="625788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029200" y="2599920"/>
            <a:ext cx="0" cy="366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71440" y="2600280"/>
            <a:ext cx="204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2438280"/>
            <a:ext cx="457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64771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ortlaufende Bestellungen werden beim Lieferanten durchgeführ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ie ersten 3 Bestellungen unter-liegen der besonderen Überwa-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72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286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7720" y="38088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4764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62400" y="895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118116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22860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uer Lieferant oder Einstellung der S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38088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reneingänge, Kataloge, Probelieferungen, Marktinformationen und ggf. Empfeh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64764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eferant ist für jedes Produkt vorhanden (optimal sind 3 Lieferant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90504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r Beschaffung eines Produkts oder alter Lieferant ist gesper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1171440"/>
            <a:ext cx="2514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hlerhafte Lieferungen durch neuen Lieferant &lt; 2 pro Jah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9372600"/>
            <a:ext cx="60958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9436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6294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9528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4382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28954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2670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962520"/>
            <a:ext cx="4572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65760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4100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9144000"/>
            <a:ext cx="990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9-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80880"/>
            <a:ext cx="1109880" cy="49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Martin Schaller</cp:lastModifiedBy>
  <dcterms:modified xsi:type="dcterms:W3CDTF">2004-09-18T20:52:34Z</dcterms:modified>
  <cp:revision>191</cp:revision>
  <dc:subject>741.1 PB Auswahl Lieferanten</dc:subject>
  <dc:title>Handbuch</dc:title>
</cp:coreProperties>
</file>