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EBA-7635-4A45-83BA-B1B0D287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460-D203-437B-AF44-D32A8FA7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43A-9F30-4DA9-A7E6-12B572B9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B03-9719-44EE-8F49-4F91B4ED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417-D40B-475F-9042-555E4557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79A-2FBF-4F8F-8600-4F2BFA95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658-920A-4B58-A2F2-74D3C90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3CC-7CEF-4994-B936-267146D0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FA2-F649-468D-B81D-179C1DCC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5EF-3336-46D8-8225-11517EE7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82A-A57C-402A-BB1B-9E5CEA18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3AA-5D29-4762-8941-E815532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4E32858-F2CE-4E32-AAC8-98B979B55D0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32004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üfung Finanz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1120" y="8458200"/>
            <a:ext cx="51912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95440" y="1967040"/>
            <a:ext cx="304920" cy="330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05040"/>
            <a:ext cx="0" cy="823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905040"/>
            <a:ext cx="0" cy="816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1666800"/>
            <a:ext cx="0" cy="755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05720" y="1682640"/>
            <a:ext cx="0" cy="761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914400"/>
            <a:ext cx="0" cy="815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04920"/>
            <a:ext cx="1219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733400"/>
            <a:ext cx="1295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047600"/>
            <a:ext cx="22100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 Einstellungen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04920"/>
            <a:ext cx="16765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.1 PB Einstell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47968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hand bestehender Auslastung, erkannte Fehler, gesetzlicher Forderungen us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88152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ttel vorhanden und Bedarf der Stellenbelegung aus Sicht der Leitung vorhan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52578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hand vorliegen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werbungen und Anforderungen der ausgeschriebenen 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15000">
            <a:off x="289800" y="925920"/>
            <a:ext cx="9907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32400">
            <a:off x="45720" y="1107720"/>
            <a:ext cx="7635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4662360"/>
            <a:ext cx="838080" cy="40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schreibu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 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9625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nn Bewer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sucht wer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5002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darf fest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12264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dgetprüfung mit Angabe d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. Gehaltshöhe, mögliches Einstelldatum us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791320"/>
            <a:ext cx="1828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sprechen mindestens 2 Bewerber dem erstellten Profi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i NEIN erfolgt erneute Suche unter Berücksichtigung der bestehenden Bewerbung (es kann auch bei der einzelnen Bewerbung der Zuschlag erfolg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5080" y="389088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50640" y="39625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5080" y="602460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5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d geeignete Bewerber vorhand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5146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67500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 Gespräch wird festgestellt, welcher Bewerber dem Unternehmen am best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spric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4197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786276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8000" y="609588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7512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spricht die vorliegende Bewerbung den Vorstellung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 Leitung, der Abteilung bz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r Finanzleitu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8153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tragliche Bindung des Bewerbers / der Bewerber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5343480"/>
            <a:ext cx="83808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wer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6796080"/>
            <a:ext cx="83808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werbung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sprä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09760" y="747720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8115480"/>
            <a:ext cx="83808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beitsvertr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bschlies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457200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schreibung der Stelle auf  geeigneten Wegen: Zeitschriften, Arbeitsamt, Personalberater, freier Markt, Empfehlungen us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914640"/>
            <a:ext cx="51912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6600" y="655308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65530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7543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nstellung wird durchgeführ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20040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2760" y="29145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2760" y="36194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2760" y="229536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2760" y="4390920"/>
            <a:ext cx="0" cy="2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52760" y="50673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52760" y="57484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2760" y="65199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57440" y="720108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57440" y="79772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09800" y="7724880"/>
            <a:ext cx="67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490920" y="4857840"/>
            <a:ext cx="0" cy="28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971800" y="486252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00440" y="6272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00440" y="41432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247920" y="837252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3240" y="8377200"/>
            <a:ext cx="81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8372520"/>
            <a:ext cx="19980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763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049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335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7621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9907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12193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763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049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instellung neuer Mitarbe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533520"/>
            <a:ext cx="274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forderungen an Arbeitsplatz, Bewerbungsinha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7621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instellung bzw. Nichtbesetzung einer St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990720"/>
            <a:ext cx="266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darf an Mitarbeiter ist festgestel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12193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ustimmung bestehender Mitarbeiter, bei Einstellung &gt; 50 % Kündigung nach Probezeit = 0 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48080" y="85154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8648640"/>
            <a:ext cx="83808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 “Einfüh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uer Mitarbeiter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885348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51460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2004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8862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7816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5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81532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64832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33412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588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678168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830592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868680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86104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auf gemäss der Prozessbeschreibung  “Einführung neuer Mitarbeiter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9144000"/>
            <a:ext cx="9907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9-1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 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04920"/>
            <a:ext cx="1109520" cy="490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Martin Schaller</cp:lastModifiedBy>
  <dcterms:modified xsi:type="dcterms:W3CDTF">2004-09-18T20:26:46Z</dcterms:modified>
  <cp:revision>268</cp:revision>
  <dc:subject>621.1 PB Einstellungen</dc:subject>
  <dc:title>Handbuch</dc:title>
</cp:coreProperties>
</file>