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6C9-997F-4482-A765-FBA33DF6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9D1-3157-4F43-B72C-7AFD50D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DD3-4A74-4FCC-A921-6679D2FA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B9D-5482-4D38-A0E2-6FFA01F5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78F-1F6B-42E4-93C2-1A32C52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F21-D1CA-4A88-8D22-EEF91EB8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292-339B-4C1A-AA3A-418CB5CD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AC7-1B70-4704-8F89-8115BCD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A21-CB71-4E51-8692-4DC50CE3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037-94F6-4A8D-B354-4D1E504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4C0-6410-4894-91D7-C908F24E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D6FE-FCBC-450B-B977-9D92299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3875834-BF7D-4BE3-B978-BB3CA92076B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51055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füh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u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95360" y="7453440"/>
            <a:ext cx="519120" cy="495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5440" y="2219400"/>
            <a:ext cx="30492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0" cy="815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914400"/>
            <a:ext cx="0" cy="815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1762200"/>
            <a:ext cx="0" cy="73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1749600"/>
            <a:ext cx="0" cy="731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914400"/>
            <a:ext cx="0" cy="815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1200240"/>
            <a:ext cx="12193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905120"/>
            <a:ext cx="1295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219320"/>
            <a:ext cx="22100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Schulun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04920"/>
            <a:ext cx="16765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2.1 PB Schul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59092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gebenenfalls bestehen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bot oder Ausschreibung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e nach internem Ausbil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472428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erfahren gemäss Prozess-beschreibung “Lenkung von Fehlern“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(831.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15000">
            <a:off x="322560" y="1053720"/>
            <a:ext cx="93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32400">
            <a:off x="43560" y="1251360"/>
            <a:ext cx="739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343400"/>
            <a:ext cx="8380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tragli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nd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6019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27432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bildungsträ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4290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Träger muss neben d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sten auch die fachli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mpetenz nachweisen, nähere Spezifizierung durch den 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257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urchführung der Schulung mit Erfassung Feetb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666880"/>
            <a:ext cx="7617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24656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t Definition des Ausbildungsziels und den Kosten. Bei internem Träger keine vertragliche Bind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743200"/>
            <a:ext cx="380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8080" y="25480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52760" y="315756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52760" y="40006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52760" y="71150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8000" y="358128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5080" y="350028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9436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bildungszi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reich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52760" y="55198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6960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npfle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8080" y="4748040"/>
            <a:ext cx="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6324480"/>
            <a:ext cx="39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05080" y="584820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2760" y="63482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3552840"/>
            <a:ext cx="8384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ezifizi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Ausbild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4724280"/>
            <a:ext cx="838440" cy="40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nkung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hler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5900760"/>
            <a:ext cx="8384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Qualitätsab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eichungsberi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00440" y="609588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772080" y="511488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772080" y="3943080"/>
            <a:ext cx="468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374796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772080" y="2943360"/>
            <a:ext cx="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971440" y="29433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5812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äger geeign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581280"/>
            <a:ext cx="6094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4952880"/>
            <a:ext cx="53352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57913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nn das Schulungsziel nicht erreicht wurde, wird der Fehler durch die Leitung eingegrenzt und geeignete Massnahmen festgeleg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66294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chweis der Ausbildung in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alakte, ggf. Aktualisierung der Ausbildungsmatr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76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049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335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762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9907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219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903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30492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erbesserte Kenntnisse der Mitar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33520"/>
            <a:ext cx="243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chulungsbedarf, festgelegte Schul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76212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chulung ist durchgefüh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99072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darf ist festgestellt und beschlos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2193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ssage Mitarbeiter über Qualität der Schulung &gt;= gut, Noten im Durchschnitt &lt; 3, Verzögerung der Ausbildung in Tagen &lt;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581280"/>
            <a:ext cx="380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54560"/>
            <a:ext cx="6094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343400"/>
            <a:ext cx="762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876920"/>
            <a:ext cx="761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181480"/>
            <a:ext cx="53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usbil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181480"/>
            <a:ext cx="762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867280"/>
            <a:ext cx="6094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5867280"/>
            <a:ext cx="380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705720"/>
            <a:ext cx="7617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781680"/>
            <a:ext cx="380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5943600"/>
            <a:ext cx="39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038480"/>
            <a:ext cx="39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6440" y="9151920"/>
            <a:ext cx="6492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9144000"/>
            <a:ext cx="990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2004-09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920"/>
            <a:ext cx="1109520" cy="49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Ein zufriedengestellter Microsoft Office-Anwender</cp:lastModifiedBy>
  <dcterms:modified xsi:type="dcterms:W3CDTF">2004-11-29T10:30:16Z</dcterms:modified>
  <cp:revision>246</cp:revision>
  <dc:subject>622.1 PB Schulungen</dc:subject>
  <dc:title>Handbuch</dc:title>
</cp:coreProperties>
</file>